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F14F-EA03-45B5-AC31-10DABBD0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D883-DA81-42A1-AC24-2DD3138D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C0B3-ED00-4BCF-85BF-5887DDFD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00EF-8679-44C1-BD5A-3DE0AD9B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C0E-348F-409C-9891-907E217B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8FE-2FD3-4885-B845-318E4BA9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A8D0-1BC1-478D-9894-641780E3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9482-F008-4B07-83E8-82064AFD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D8F2-400E-4330-A289-2862A7A2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67FC-1581-4F72-8243-401CAE05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7136-75D2-47E6-AD62-DC18B20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D4D5-E663-43F1-8BB5-9EFA275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FFC-C566-41CA-B9FE-585209A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7FAC-970F-459D-BF0E-3BA3558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17B-1AE4-4859-9090-6DC0CEA5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8BC2-16E6-4571-B92E-3EFBBD64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2E82-5C96-43BC-8051-C94C541D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B982-0D90-439A-A121-A13180E6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AFDD-823A-41B0-8119-59345F2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6DB8-701D-453D-86E8-607634B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6E86-724A-457E-A4FB-373911ED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ABC7-900E-4030-84D5-851CE47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F4EC-8C1E-4825-B1AC-1D7E587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858C-F3A1-4B6E-90C2-331CAF5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D4B-740C-472D-9355-19E6009DD29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948-ACE3-42D0-AF2A-3C09A7B31EE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ти бъде Бог спасение, Всемогъщият - щит т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од Неговата сян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 почивай, не се б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 блажена безопасн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х и мирен ост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измама, ни насил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же да те докач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от примки те избав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мор сред тъмн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меч, кога погибе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устява в пладни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е защита тво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езопасност ще си 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огато окол те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дат хиляди и тм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за теб ще заповя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ангелите С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би да се препън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якога ногата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датно ще те во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Йеова в тоз земен път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Той ще те увенча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с вечния живо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4:24Z</dcterms:modified>
  <cp:revision>65</cp:revision>
  <dc:subject/>
  <dc:title>Slide 1</dc:title>
</cp:coreProperties>
</file>